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0A7-88DE-47CF-9E14-F7350EBF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7BB-5D16-4C3F-B086-3BFD6D58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1C7-6DF8-44AC-952D-EBAEA8C9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94D-0218-44AD-A9DB-43517CBF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5CA-11C1-4A36-AAAB-62BB815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51C-FFEB-47CF-B175-1FC8576C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FDC-A13C-4EBA-9615-C6B5E584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B10-C9B8-463D-B99A-47834DD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66E-AF9B-413E-A4C2-78FBB25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41C-B642-46EE-B4F1-4CF64EC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EBD-D4E1-4901-84B8-BC65BEDF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822-3F9B-44E7-93ED-67E6AD0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668-77B2-4308-A822-FCDF2BBDE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9:51:18Z</dcterms:created>
  <dc:creator>Grupo Editorial</dc:creator>
  <dc:description/>
  <dc:language>en-US</dc:language>
  <cp:lastModifiedBy>Grupo Editorial</cp:lastModifiedBy>
  <dcterms:modified xsi:type="dcterms:W3CDTF">2001-11-13T09:53:29Z</dcterms:modified>
  <cp:revision>1</cp:revision>
  <dc:subject/>
  <dc:title>Sin título de diapositiva</dc:title>
</cp:coreProperties>
</file>